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8.wmf" ContentType="image/x-wmf"/>
  <Override PartName="/ppt/media/image14.png" ContentType="image/png"/>
  <Override PartName="/ppt/media/image19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20.jpeg" ContentType="image/jpeg"/>
  <Override PartName="/ppt/media/image7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89F4-9110-4574-A8C3-7D9618DAB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5008-D5F4-4015-80A2-91DB59D71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0F74-4A1F-4785-B4DF-C77C89ECA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FCE5-3038-4926-B111-39DF7D7EC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Line 62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4"/>
          <p:cNvSpPr/>
          <p:nvPr/>
        </p:nvSpPr>
        <p:spPr>
          <a:xfrm>
            <a:off x="24004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65"/>
          <p:cNvSpPr/>
          <p:nvPr/>
        </p:nvSpPr>
        <p:spPr>
          <a:xfrm>
            <a:off x="252720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66"/>
          <p:cNvSpPr/>
          <p:nvPr/>
        </p:nvSpPr>
        <p:spPr>
          <a:xfrm>
            <a:off x="2984400" y="6286680"/>
            <a:ext cx="54000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67"/>
          <p:cNvSpPr/>
          <p:nvPr/>
        </p:nvSpPr>
        <p:spPr>
          <a:xfrm>
            <a:off x="311148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8"/>
          <p:cNvSpPr/>
          <p:nvPr/>
        </p:nvSpPr>
        <p:spPr>
          <a:xfrm>
            <a:off x="35686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69"/>
          <p:cNvSpPr/>
          <p:nvPr/>
        </p:nvSpPr>
        <p:spPr>
          <a:xfrm>
            <a:off x="3695760" y="6276960"/>
            <a:ext cx="2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70"/>
          <p:cNvSpPr/>
          <p:nvPr/>
        </p:nvSpPr>
        <p:spPr>
          <a:xfrm>
            <a:off x="1523880" y="633744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84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" name="Object 85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" name="Object 8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" name="Rectangle 86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8"/>
          <p:cNvSpPr/>
          <p:nvPr/>
        </p:nvSpPr>
        <p:spPr>
          <a:xfrm>
            <a:off x="3276720" y="0"/>
            <a:ext cx="2552760" cy="90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3650040" y="517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ation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5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36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Object 3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" name="Rectangle 37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27.xml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27.xml"/><Relationship Id="rId5" Type="http://schemas.openxmlformats.org/officeDocument/2006/relationships/image" Target="../media/image1.jpeg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image" Target="../media/image1.jpeg"/><Relationship Id="rId9" Type="http://schemas.openxmlformats.org/officeDocument/2006/relationships/slide" Target="slide27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20.xml"/><Relationship Id="rId11" Type="http://schemas.openxmlformats.org/officeDocument/2006/relationships/image" Target="../media/image1.jpeg"/><Relationship Id="rId12" Type="http://schemas.openxmlformats.org/officeDocument/2006/relationships/slide" Target="slide20.xml"/><Relationship Id="rId13" Type="http://schemas.openxmlformats.org/officeDocument/2006/relationships/slide" Target="slide20.xml"/><Relationship Id="rId14" Type="http://schemas.openxmlformats.org/officeDocument/2006/relationships/image" Target="../media/image1.jpeg"/><Relationship Id="rId15" Type="http://schemas.openxmlformats.org/officeDocument/2006/relationships/slide" Target="slide27.xml"/><Relationship Id="rId16" Type="http://schemas.openxmlformats.org/officeDocument/2006/relationships/slide" Target="slide27.xml"/><Relationship Id="rId17" Type="http://schemas.openxmlformats.org/officeDocument/2006/relationships/image" Target="../media/image1.jpeg"/><Relationship Id="rId18" Type="http://schemas.openxmlformats.org/officeDocument/2006/relationships/slide" Target="slide3.xm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hschool.com/atschool/Magruders/2001/Student_Area/MAG_SC7_ACT_index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2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27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27.xml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55680" y="6419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Arial"/>
              </a:rPr>
              <a:t>© 2001 by Prentice Hall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43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Magruder’s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American Governmen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C H A P T E R  7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Elector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3362400"/>
            <a:ext cx="914400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1960" indent="-291960" algn="ctr">
              <a:spcBef>
                <a:spcPts val="40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ucuses     &amp;      Primaries Both lead up to the conven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months. Before presidential elections: parties send out a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to Conven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king states to meet to select presidential nominations and select delegates they will send to the national party convention…two metho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5"/>
          <p:cNvCxnSpPr/>
          <p:nvPr/>
        </p:nvCxnSpPr>
        <p:spPr>
          <a:xfrm flipH="1">
            <a:off x="928080" y="2020680"/>
            <a:ext cx="23310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Straight Arrow Connector 6"/>
          <p:cNvCxnSpPr/>
          <p:nvPr/>
        </p:nvCxnSpPr>
        <p:spPr>
          <a:xfrm>
            <a:off x="5795640" y="2049120"/>
            <a:ext cx="2228040" cy="144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872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. Caucuses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783720"/>
            <a:ext cx="86104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2560" indent="-322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cus: closed meeting of like-minded people who meet to select the candidate they will support , the caucus as a nominating device fell out of favor in the 182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d locally and they choose delegates to a local con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5120" indent="-2034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@ the local convention, chose delegates to the state con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5120" indent="-2034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@ the state convention, chose delegates to the national conven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731880" y="3828960"/>
            <a:ext cx="41292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ing Political Cartoons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delegate-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in a presidential election by caucus is held in Iow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afterward by the first scheduled primary in New Hampsh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4835520" y="3276720"/>
            <a:ext cx="4308480" cy="291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. Primaries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9903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5560" indent="-29556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nvention meetings with 2 Purpos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86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rs select delegates from their states to attend the national party con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86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nominate a presidential candidate for their party or show  preference for a presidential candi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560" indent="-29556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referred because it allows people to decide on candidates for presidency and nominees have to work hard to get suppo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560" indent="-29556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: 40 states used presidential primary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560" indent="-295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 states hold their primaries on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 Tuesday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February 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5560" indent="-295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/4ths of states hold their primaries in mid-M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5560" indent="-295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-36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kinds of primari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ner-Take-All vs. Proportional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512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winner-take-all sta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legates are awarded only to the candidate who wins the preference v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66840" y="2328840"/>
          <a:ext cx="7023240" cy="919080"/>
        </p:xfrm>
        <a:graphic>
          <a:graphicData uri="http://schemas.openxmlformats.org/drawingml/2006/table">
            <a:tbl>
              <a:tblPr/>
              <a:tblGrid>
                <a:gridCol w="1735200"/>
                <a:gridCol w="1735200"/>
                <a:gridCol w="1734840"/>
                <a:gridCol w="1818000"/>
              </a:tblGrid>
              <a:tr h="91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% of vote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deleg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of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=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dele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4" descr="Stick Guy With Hands Up Clip Art"/>
          <p:cNvPicPr/>
          <p:nvPr/>
        </p:nvPicPr>
        <p:blipFill>
          <a:blip r:embed="rId1"/>
          <a:stretch/>
        </p:blipFill>
        <p:spPr>
          <a:xfrm>
            <a:off x="118352880" y="-26052480"/>
            <a:ext cx="1743120" cy="2857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Stick Guy With Hands Up Clip Art"/>
          <p:cNvPicPr/>
          <p:nvPr/>
        </p:nvPicPr>
        <p:blipFill>
          <a:blip r:embed="rId2"/>
          <a:stretch/>
        </p:blipFill>
        <p:spPr>
          <a:xfrm>
            <a:off x="118352880" y="-26052480"/>
            <a:ext cx="1743120" cy="2857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Stick Guy With Hands Up Clip Art"/>
          <p:cNvPicPr/>
          <p:nvPr/>
        </p:nvPicPr>
        <p:blipFill>
          <a:blip r:embed="rId3"/>
          <a:stretch/>
        </p:blipFill>
        <p:spPr>
          <a:xfrm>
            <a:off x="118352880" y="-26052480"/>
            <a:ext cx="1743120" cy="2857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C:\Users\Fatmeh Reda\AppData\Local\Microsoft\Windows\Temporary Internet Files\Content.IE5\UROBIBTA\MC900383638[1].wmf"/>
          <p:cNvPicPr/>
          <p:nvPr/>
        </p:nvPicPr>
        <p:blipFill>
          <a:blip r:embed="rId4"/>
          <a:stretch/>
        </p:blipFill>
        <p:spPr>
          <a:xfrm>
            <a:off x="2238480" y="1279440"/>
            <a:ext cx="1203120" cy="1046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Users\Fatmeh Reda\AppData\Local\Microsoft\Windows\Temporary Internet Files\Content.IE5\QSRTVS04\MC900383636[1].wmf"/>
          <p:cNvPicPr/>
          <p:nvPr/>
        </p:nvPicPr>
        <p:blipFill>
          <a:blip r:embed="rId5"/>
          <a:stretch/>
        </p:blipFill>
        <p:spPr>
          <a:xfrm>
            <a:off x="5722920" y="1147680"/>
            <a:ext cx="1684440" cy="1222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5"/>
          <p:cNvSpPr/>
          <p:nvPr/>
        </p:nvSpPr>
        <p:spPr>
          <a:xfrm>
            <a:off x="0" y="3317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state with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proportional repres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eleg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awarded to those candidates who win at least 15% of the v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28760" y="5300640"/>
          <a:ext cx="7023240" cy="919080"/>
        </p:xfrm>
        <a:graphic>
          <a:graphicData uri="http://schemas.openxmlformats.org/drawingml/2006/table">
            <a:tbl>
              <a:tblPr/>
              <a:tblGrid>
                <a:gridCol w="1735200"/>
                <a:gridCol w="1735200"/>
                <a:gridCol w="1734840"/>
                <a:gridCol w="1818000"/>
              </a:tblGrid>
              <a:tr h="91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% of vote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deleg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of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=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dele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14" descr="C:\Users\Fatmeh Reda\AppData\Local\Microsoft\Windows\Temporary Internet Files\Content.IE5\QSRTVS04\MC900383636[1].wmf"/>
          <p:cNvPicPr/>
          <p:nvPr/>
        </p:nvPicPr>
        <p:blipFill>
          <a:blip r:embed="rId6"/>
          <a:stretch/>
        </p:blipFill>
        <p:spPr>
          <a:xfrm>
            <a:off x="5875200" y="4175280"/>
            <a:ext cx="1774800" cy="1288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C:\Users\Fatmeh Reda\AppData\Local\Microsoft\Windows\Temporary Internet Files\Content.IE5\QSRTVS04\MC900383636[1].wmf"/>
          <p:cNvPicPr/>
          <p:nvPr/>
        </p:nvPicPr>
        <p:blipFill>
          <a:blip r:embed="rId7"/>
          <a:stretch/>
        </p:blipFill>
        <p:spPr>
          <a:xfrm>
            <a:off x="1852560" y="4114800"/>
            <a:ext cx="1754280" cy="1273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0" y="496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winner-take-all sta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legates are awarded only to the candidate who wins the preference v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2480" indent="-31248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ate/territory has an assigned number of delegates it can send to the convention based on population/voting patterns/ # of congressional representatives and state government officials that are members of that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: 5, 552 to national conven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: 2,286 to national convention publ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" descr="C:\Users\Fatmeh Reda\AppData\Local\Microsoft\Windows\Temporary Internet Files\Content.IE5\ZYCQ3AB5\MC900437787[1].wmf"/>
          <p:cNvPicPr/>
          <p:nvPr/>
        </p:nvPicPr>
        <p:blipFill>
          <a:blip r:embed="rId1"/>
          <a:stretch/>
        </p:blipFill>
        <p:spPr>
          <a:xfrm>
            <a:off x="5983200" y="2214720"/>
            <a:ext cx="1838520" cy="160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Fatmeh Reda\AppData\Local\Microsoft\Windows\Temporary Internet Files\Content.IE5\9D5N5HFU\MC900437785[1].wmf"/>
          <p:cNvPicPr/>
          <p:nvPr/>
        </p:nvPicPr>
        <p:blipFill>
          <a:blip r:embed="rId2"/>
          <a:stretch/>
        </p:blipFill>
        <p:spPr>
          <a:xfrm>
            <a:off x="6053040" y="4308480"/>
            <a:ext cx="1581120" cy="1603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2089080"/>
            <a:ext cx="9144000" cy="40975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20880" y="0"/>
            <a:ext cx="3229920" cy="2360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August–September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Election Year Delegates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convention ado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arty platform, nominate 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presidential candida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atify his or her choic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ce-presidential running m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6920" y="583560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Co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3259080" y="0"/>
            <a:ext cx="3167280" cy="2396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September–November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he Election Year Follo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ventions, each candi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es on his or her oppon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ates provide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ompare and contrast 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idat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qualifications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s for the fu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109400" y="5776920"/>
            <a:ext cx="166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b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6431040" y="0"/>
            <a:ext cx="2712960" cy="191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November on the Tuesday after the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Monday in November, the voters cast 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llots and the president-elect is determin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6560" y="573264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lection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5. Convention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s select host city [look for arenas, stadiums, and sporting venu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8 Republican NC: wanted seating capacity of 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8 Democratic NC: wanted seating capacity of 84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of National conven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 party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presidential/vice presidential candi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e party 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opt party platfor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genda of Convention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Vice Presidential candidate- they give acceptance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 call of the stat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all states in alphabetical order [Alabama to Wyoming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mplete roll call of states A-Z is called a ball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spokesperson  gives a speech about the stat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history/geography/its famous people… then announces it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gate cou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choice for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usually wins part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nomination on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llot…if no one gets majority of votes, chairperson calls for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inee for that party gives Acceptance Spe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C:\Users\Fatmeh Reda\AppData\Local\Microsoft\Windows\Temporary Internet Files\Content.IE5\UROBIBTA\MC900440038[1].wmf"/>
          <p:cNvPicPr/>
          <p:nvPr/>
        </p:nvPicPr>
        <p:blipFill>
          <a:blip r:embed="rId1"/>
          <a:stretch/>
        </p:blipFill>
        <p:spPr>
          <a:xfrm>
            <a:off x="7423200" y="4056120"/>
            <a:ext cx="1436760" cy="22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ominating and Electing a Candidat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2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3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4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5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5" descr="_x0014_MAG01se0701a5218.jpg                                           00000179_x000b_PenyackJ HD                    B33A4082:"/>
          <p:cNvPicPr/>
          <p:nvPr/>
        </p:nvPicPr>
        <p:blipFill>
          <a:blip r:embed="rId9"/>
          <a:stretch/>
        </p:blipFill>
        <p:spPr>
          <a:xfrm>
            <a:off x="870120" y="914400"/>
            <a:ext cx="7713360" cy="528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1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The most commonly used method of nomination today 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cauc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direct prim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self-announ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conven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A runoff primary is held in some States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no one wins a majority of vo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re is only one candi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not enough voters turn out on election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 candidate asks for a recoun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chapter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3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C H A P T E R  7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Electoral Proces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2720" y="1467000"/>
            <a:ext cx="79214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SECTION 1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The Nominat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SECTION 2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E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SECTION 3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Money and E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9">
            <a:hlinkClick r:id="rId10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>
            <a:hlinkClick r:id="rId12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1">
            <a:hlinkClick r:id="rId1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>
            <a:hlinkClick r:id="rId1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5">
            <a:hlinkClick r:id="rId1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6">
            <a:hlinkClick r:id="rId1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872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2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lec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2360" y="95076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administration of elections in the United States make democracy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o precincts and polling places play in the electio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ways can voters cast their ballo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o voting machines and other innovations play in the electio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1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2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5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6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5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9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01480" y="1181160"/>
            <a:ext cx="8209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Administration of Elec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2062080"/>
            <a:ext cx="914400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4360" indent="-2343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ress has the power to set the time, place, and manner of congressional and presidential elec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ress has chosen the first Tuesday after the first Monday in November of every even-numbered year for congressional el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idential election being held the same day every fourth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America Vote Act: upgrade voting machines, training of election officials, computerize regist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 absentee voting: people can vote without going to polling place on election day through the m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603360" y="826920"/>
            <a:ext cx="7974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ions are primarily regulated by State law, but there are some overreaching federal regulation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8400" y="0"/>
            <a:ext cx="727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ecincts and Polling Plac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908000"/>
            <a:ext cx="4748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300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ecin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recinc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voting distri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incts are the smallest geographic units used to carry out ele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recinct election board supervises the voting process in each precin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2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3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6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7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59240" y="812520"/>
            <a:ext cx="4229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lling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lling pl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where the voters who live in a precinct go to vot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located in or near each precinct.  Polling places are supposed to be located conveniently for vo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C:\Users\Fatmeh Reda\AppData\Local\Microsoft\Windows\Temporary Internet Files\Content.IE5\ZYCQ3AB5\MC900301342[1].wmf"/>
          <p:cNvPicPr/>
          <p:nvPr/>
        </p:nvPicPr>
        <p:blipFill>
          <a:blip r:embed="rId9"/>
          <a:stretch/>
        </p:blipFill>
        <p:spPr>
          <a:xfrm>
            <a:off x="0" y="0"/>
            <a:ext cx="2502000" cy="198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Users\Fatmeh Reda\AppData\Local\Microsoft\Windows\Temporary Internet Files\Content.IE5\QSRTVS04\MC900301334[1].wmf"/>
          <p:cNvPicPr/>
          <p:nvPr/>
        </p:nvPicPr>
        <p:blipFill>
          <a:blip r:embed="rId10"/>
          <a:stretch/>
        </p:blipFill>
        <p:spPr>
          <a:xfrm>
            <a:off x="6672240" y="4678200"/>
            <a:ext cx="2279520" cy="1427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asting the Ballo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8840" y="1929960"/>
            <a:ext cx="85107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 was initially done orally. It was considered “manly” to speak out your vote without fear of repri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ballots began to be used in the mid-1800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ate 1800s, ballot reforms cleaned up ballot fraud by supplying standardized, accurate ballots and mandating that voting be secr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3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7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1336680" y="1063800"/>
            <a:ext cx="61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istory of the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-316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ffice-Group and Party-Column Ballo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0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8" descr="_x0014_MAG01se0702a5219.jpg                                           00000179_x000b_PenyackJ HD                    B33A4082:"/>
          <p:cNvPicPr/>
          <p:nvPr/>
        </p:nvPicPr>
        <p:blipFill>
          <a:blip r:embed="rId9"/>
          <a:stretch/>
        </p:blipFill>
        <p:spPr>
          <a:xfrm>
            <a:off x="336600" y="800280"/>
            <a:ext cx="8420040" cy="49622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0"/>
          <p:cNvSpPr/>
          <p:nvPr/>
        </p:nvSpPr>
        <p:spPr>
          <a:xfrm>
            <a:off x="259200" y="4857840"/>
            <a:ext cx="43642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ll candidates of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arty are grouped together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Under title of off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1"/>
          <p:cNvSpPr/>
          <p:nvPr/>
        </p:nvSpPr>
        <p:spPr>
          <a:xfrm>
            <a:off x="5196240" y="5361120"/>
            <a:ext cx="3499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Lists candidates 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arty</a:t>
            </a:r>
            <a:r>
              <a:rPr b="1" lang="ja-JP" sz="2400" spc="-1" strike="noStrike">
                <a:solidFill>
                  <a:srgbClr val="c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Voting Machines and Innova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_x0014_MAG01se0702a5195.jpg                                           00000179_x000b_PenyackJ HD                    B33A4082:"/>
          <p:cNvPicPr/>
          <p:nvPr/>
        </p:nvPicPr>
        <p:blipFill>
          <a:blip r:embed="rId9"/>
          <a:stretch/>
        </p:blipFill>
        <p:spPr>
          <a:xfrm>
            <a:off x="4321080" y="831960"/>
            <a:ext cx="4822920" cy="5443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4"/>
          <p:cNvSpPr/>
          <p:nvPr/>
        </p:nvSpPr>
        <p:spPr>
          <a:xfrm>
            <a:off x="0" y="787320"/>
            <a:ext cx="4438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vote counting has been in use since the 1960s that reads ballots like a Scantron machine- machine scans your votes and records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te-by-mail elections have come into use in recent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voting is a trend that may be encountered in the near fu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4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2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Elections are hel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first Wednesday after Hallow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first Tuesday after the first Monday in Nove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he second Thursday after the first Monday in Mar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first Monday in Dece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he Office-Group Ballot encou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voter fra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split-ticket vo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voter dissatisf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Democratic Par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4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8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9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1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3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oney and Elec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240" y="917280"/>
            <a:ext cx="8858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6160" indent="-326160">
              <a:spcBef>
                <a:spcPts val="22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issues raised by campaign spend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2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various sources of campaign fund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2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federal laws regulate campaign fina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2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role does the Federal Election Commission have in enforcing campaign finance la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2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loopholes exist in today’s campaign finance la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9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0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1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2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8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ampaign Spending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6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7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0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5" descr="_x0014_MAG01se0703a5196.jpg                                           00000179_x000b_PenyackJ HD                    B33A4082:"/>
          <p:cNvPicPr/>
          <p:nvPr/>
        </p:nvPicPr>
        <p:blipFill>
          <a:blip r:embed="rId9"/>
          <a:stretch/>
        </p:blipFill>
        <p:spPr>
          <a:xfrm>
            <a:off x="309600" y="930240"/>
            <a:ext cx="8583480" cy="521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ources of Funding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5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7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8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0" y="2351160"/>
            <a:ext cx="4091040" cy="94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contributors: $5-$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0" y="3467160"/>
            <a:ext cx="4097160" cy="94716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lthy supporters: large don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4565520" y="1947960"/>
            <a:ext cx="4578480" cy="1435320"/>
          </a:xfrm>
          <a:prstGeom prst="rect">
            <a:avLst/>
          </a:prstGeom>
          <a:solidFill>
            <a:srgbClr val="0a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party groups such as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Political Action Committees [PA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:special-interest groups who support a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4565520" y="3490920"/>
            <a:ext cx="2668680" cy="13737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fund-raising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0" y="4659480"/>
            <a:ext cx="4102200" cy="1433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didates: spend own money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s Perot spend $65 to run as independent president in 199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4565520" y="5016600"/>
            <a:ext cx="4578480" cy="113040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Subsid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s of money  from the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1"/>
          <p:cNvGrpSpPr/>
          <p:nvPr/>
        </p:nvGrpSpPr>
        <p:grpSpPr>
          <a:xfrm>
            <a:off x="1865160" y="963720"/>
            <a:ext cx="5396040" cy="4733640"/>
            <a:chOff x="1865160" y="963720"/>
            <a:chExt cx="5396040" cy="4733640"/>
          </a:xfrm>
        </p:grpSpPr>
        <p:sp>
          <p:nvSpPr>
            <p:cNvPr id="321" name="Line 20"/>
            <p:cNvSpPr/>
            <p:nvPr/>
          </p:nvSpPr>
          <p:spPr>
            <a:xfrm>
              <a:off x="4332240" y="1839960"/>
              <a:ext cx="0" cy="38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1865160" y="963720"/>
              <a:ext cx="5396040" cy="9471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ivate and Public Sources of Campaign Mone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8"/>
            <p:cNvSpPr/>
            <p:nvPr/>
          </p:nvSpPr>
          <p:spPr>
            <a:xfrm>
              <a:off x="4102200" y="28256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9"/>
            <p:cNvSpPr/>
            <p:nvPr/>
          </p:nvSpPr>
          <p:spPr>
            <a:xfrm>
              <a:off x="4102200" y="42116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30"/>
            <p:cNvSpPr/>
            <p:nvPr/>
          </p:nvSpPr>
          <p:spPr>
            <a:xfrm>
              <a:off x="4102200" y="544500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0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1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Nominating Proces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5080" y="85068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09240" indent="-3092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nominating process a critical first step in the electio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elf-announcement, the caucus, and the convention nominating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direct primary the principal nominating method used in the United State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some candidates use the petition as a nominating de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8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1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3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Federal Election Commiss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18600" y="934920"/>
            <a:ext cx="847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87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ederal Election Commission (FEC) enfo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ly disclosure of campaign financ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n campaign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n campaign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sions for public funding of presidential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6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7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9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oopholes in the La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843120"/>
            <a:ext cx="9144000" cy="23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376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oophole than law…” —Lyndon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Hard money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ions given directly to candidates for their campaigns for Congress or White House..they’re limited and must be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oft money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mited money given to State and local party organizations for “party-building activities” [like voter registration] but end up being used for presidential or congressional campaig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497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500 million was given to campaigns in this way in 2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1" descr=""/>
          <p:cNvPicPr/>
          <p:nvPr/>
        </p:nvPicPr>
        <p:blipFill>
          <a:blip r:embed="rId1"/>
          <a:stretch/>
        </p:blipFill>
        <p:spPr>
          <a:xfrm>
            <a:off x="-2530440" y="0"/>
            <a:ext cx="15906600" cy="6297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0" y="36792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68200" indent="-26820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dependent campaign spe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 person unrelated and unconnected to a candidate or party can spend as much money as they want to benefit or work against candi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ssue a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take a stand on certain issues in order to criticize or support a certain candidate without actually mentioning that person’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ative Issue Ad by MoveOn.org: President Bush Can't Think of a Mistake, 2004 (0:2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ative Issue Ad by MoveOn.org: The Corporation's Choice, 2004 (0: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ative Issue Ad by Swiftboat Veterans for Truth: Christmas in Cambodia, 2004 (0:3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3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s of campaign funding in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nonparty groups, such as political action committ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government subsi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candidates’ personal fu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ll of the ab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federal election legislature passed in the 1970s, candidates are not allow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ake government subsi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use their own money in campaig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ake contributions of more than $1,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ll of the ab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8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266760" y="274320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 Critical First Ste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8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 the United States, the election process occurs in two ste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mination, in which the field of candidates is narrow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l election, the regularly scheduled election where voters make the final choice of office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99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Why is nominating Important [*write down somewhere*]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49652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 major function of political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 for the decentralized character of major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ions place a real and practical limits on the choices that voters can make in an el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234648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0" y="0"/>
            <a:ext cx="3303720" cy="317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-4 Years Before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steps for potential candi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broadening their visibilit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their appeal nationwide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ing committees to exp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ir viability as a candidate.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sults are encouraging,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der will officially announce 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her candid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322800" y="0"/>
            <a:ext cx="3141360" cy="210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-4 Years Before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sts of running for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huge and raising funds is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going effort throughout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mpaign. Lack of funds of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e contenders to drop ou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6489720" y="0"/>
            <a:ext cx="2654280" cy="273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January–June of the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Year Primaries and caucuses help deter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ar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nominee. At this stage, vo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their par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frontrunner and 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idates concede def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3680" y="5851440"/>
            <a:ext cx="274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the R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860200" y="5791320"/>
            <a:ext cx="23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ndrai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5191200" y="5826240"/>
            <a:ext cx="39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ies and Cauc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Content Placeholder 3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26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Ways to Nominate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990360"/>
            <a:ext cx="8610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Announceme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who wants to run for office simply announces that f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ldest form of the nominating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used by someone who failed to win a regular party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nominating or by someone unhappy with the party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cho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4572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Wallace of the American Independent Party in 1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4572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gene McCarthy, Independent in 1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4572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Anderson in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4572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s Perot in 199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7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C:\Users\Fatmeh Reda\AppData\Local\Microsoft\Windows\Temporary Internet Files\Content.IE5\M21I9DF9\MC900058994[1].wmf"/>
          <p:cNvPicPr/>
          <p:nvPr/>
        </p:nvPicPr>
        <p:blipFill>
          <a:blip r:embed="rId9"/>
          <a:stretch/>
        </p:blipFill>
        <p:spPr>
          <a:xfrm>
            <a:off x="7120080" y="4443480"/>
            <a:ext cx="180972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990360"/>
            <a:ext cx="86104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Pet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local level in American politics- candidates are nominated by petitions signed by a certain number of qualified voters in the election distr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party and independent candidates are usually required by State law to be nominated by 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ion is often used at the local level to nominate for school posts and municipal off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Fatmeh Reda\AppData\Local\Microsoft\Windows\Temporary Internet Files\Content.IE5\M21I9DF9\MC900301354[1].wmf"/>
          <p:cNvPicPr/>
          <p:nvPr/>
        </p:nvPicPr>
        <p:blipFill>
          <a:blip r:embed="rId1"/>
          <a:stretch/>
        </p:blipFill>
        <p:spPr>
          <a:xfrm>
            <a:off x="6723000" y="3859200"/>
            <a:ext cx="1341360" cy="181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20:45:30Z</dcterms:created>
  <dc:creator>Pearson Education</dc:creator>
  <dc:description/>
  <dc:language>en-US</dc:language>
  <cp:lastModifiedBy>olsonl olson</cp:lastModifiedBy>
  <cp:lastPrinted>2000-02-11T15:28:41Z</cp:lastPrinted>
  <dcterms:modified xsi:type="dcterms:W3CDTF">2017-05-08T16:58:58Z</dcterms:modified>
  <cp:revision>71</cp:revision>
  <dc:subject>World History Lecture Notes</dc:subject>
  <dc:title>Magruder’s American Government</dc:title>
</cp:coreProperties>
</file>